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AD32-266C-4CC6-9E88-1CD52F49C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93A-2BD9-4A77-9A60-49D0C146E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AE34-A9F3-46D6-9F56-4D5F3F384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3284-95C3-4A7E-AF83-E96B95FC2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26E-3223-454F-ADFF-D19748152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7C28-855F-4A04-9ED0-777DC0DE1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8F4F-3666-44DC-B5D6-20904996C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07A3-A19F-49DC-92F5-EBB4A7773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C25D-5359-4B2E-9A38-A33F40750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1F98-11B3-4682-B203-DFF92F685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E39-F91E-4BC3-9950-D92C45181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7EF-FEC1-4459-8DE0-7AB58668E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EB7F-17D0-4637-86C1-54613FE04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15F-BA54-4F94-9D0A-EF8130D1D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343-DC2C-4349-A488-03060673F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6467-0078-4AF0-8932-A8F9088F0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D8F-3227-4F94-AFB1-03BF3720E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948F-07E4-420C-B90B-3CBFCE01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B36-CD81-4EAA-AF87-E9160AD5E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1BFB-27CC-427B-A041-CAC9AC1A9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8F9-BC88-463C-BF4D-192DF6E3D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4FD4-6D66-45D0-BA08-41A08E99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24D-699B-42D5-A5FF-B331EEFD2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6F59-43D7-4C93-9C54-BAFE808CA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EDD-48B4-4DA8-BDAC-FCC9E7168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2A01-A24E-410F-A203-E63A7F5AD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69A5-06AD-4344-AC5E-35342112D8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2C1-2DF2-469A-86CB-2AD1CFB7E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5AFE-A72B-4608-8A75-F80E9B6A4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91B5-170D-4390-8309-65D0C2B1C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B41-FFAA-4C52-B690-945A0CD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641-15D2-4A35-AF55-E3074209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FFC-9243-4B8E-AAA1-531EB58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D124-822B-41EA-94B7-926AC1ED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0C9-6473-4A27-A679-090AF9C1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348-5ACB-4532-86AE-B1A79C6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C75-BD97-4444-B480-BD4FF229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E790-0139-4748-B5BB-0233443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689-A139-4357-BAA8-52461717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62E-BD38-4902-9EB8-A526F9C6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37A-97C0-4629-91FB-DB5BE1C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770-BD7F-4626-B454-A8D391FE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A76-B4A7-427D-B9D5-91CB8CF7E6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 Şüpheliler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turum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r eposta mesajının kaydedilmesi ve iletilmesiyle ilgili kayıtlar o mesajın içinde yer alı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İ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 GÖNDER tuşuna bastığında epostası bilgisayarından alınıp İnternet Servis Sağlayıcısının giden posta sunucusuna taşını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'in İSS'si epostayı internete gönder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posta, Bob'un İSS'sinin gelen posta (POP3) sunucusuna ilet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ob İSS’sine bağlandığında, eposta bilgisayarına indir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A3DC-BC4E-4C3F-917D-3F0E7DB41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 iki bölümden oluş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şlık: Mesajın kimden kime gönderildiği, konusu, tarihi gibi bilgilerin yanı sır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nasıl saklandığını/iletildiğini de içer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övde: Eposta mesajının içeriğ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ıradaki slaytta, başlıklarıyla birlikte bir örnek eposta gösterilmiş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Jan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ME-Version: 1,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okuluslu Hizmet Sağlayıcı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, Google gibi çokuluslu hizmet sağlayıcılar, size bir IP adresinin belirli bir zamanda hangi IP adresi tarafından kullanıldığını bu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nin kimliği (örneğin Facebook profili) gerekl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uslararası işbirliği gerekli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zli Soruşturma Yöntem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yi tespit etmişseniz, kullandığı IP adreslerini tespit etmek için teknik takip gibi gizli soruşturma yöntemleri kullanı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nin Gerçek Kimlikle Eşleştirilme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öste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m nedi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yle elde edebileceğiniz bilgil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İnternet Servis Sağlayıc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ğrafi konumlandı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zeleme: IP adresinin ne olduğunu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nin nasıl bulunacağını tarif e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 ile bir gerçek kişinin nasıl ilişkilendirileceğini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te şüphelilerin tespitinin önündeki üç teknik engeli açıklay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 Servis Sağlayıcılar, bir IP adresini belli bir zamanda hangi abonenin kullandığının kayıtlarını tu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ın ne süreyle saklanacağı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a nasıl erişileceği de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SS abone verisine erişim sağlamak için ne gerek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gi İSS'den bilgi isteyeceğinizi nereden bileceksini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ğrafi konumlandırma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ğrafi konum verileri sizce nereden elde edili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venilirliği asla garanti edileme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zaman belli bir kişiyi teşhis de etme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k ve Dinamik IP Adresleri var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ğ Adresi Çevirme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pılan hareketin saati çok önemlidi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uml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ğ Adresi Çevirme (NAT) kullanan kurumlar, şüphelilerin hareketlerini belirli bir dahili IP adresiyle eşleştirecek kayıtlara sahip olabilir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rumla bağlantının nasıl kurulacağı ülke yasalarına göre değiş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nadiren el altınd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gisayarı bulabilseniz bil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kullanıyor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aktan kumanda ediliyor olabilir miy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erişim noktası hangi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N kullanılmış m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İĞER Teknik Güçlük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üçlük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kasıtlı ya da kasıtsız, meşru ya da gayrimeşru şekilde tahrif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örnekleri tartışılacakt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imleştirme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Çevrimiçi faaliyetleri gizlemek için ücretli ve ücretsiz hizmet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il sunucuların anonimleştirilmesi, web'de gezinme hareketler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osta sağlayıcılarının anonimleştirilmesi, epostanın göndericisini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vekil sunucularının anonimleştirilmesi ise tüm internet trafiğ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Örnek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, 0 ile 255 arasındaki dört sayının noktalarla ayrılması sonucunda oluş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rneğ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nin yeni bir türü olan sürüm 6 ise bu derste işlenmeyecek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Şifrel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letişimin şifrelenmiş olması mümkündü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jın bütün içeriği de şifrelenmiş o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şıyıcı Sınıfı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ok sayıda kullanıcının tek bir IP adresi kullanmasının yöntem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llikle mobil telefon şebekelerinin internet bağlantılarında kullanıl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, çevrimiçi hareketlerden kimlik tespiti yapmanın gerekli fakat yeterli olmayan bir unsuru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 ile bir gerçek kişinin ilişkilendirilmesi çok zor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şinin çevrimiçi takibinin yapılmasını daha da zorlaştıran teknoloji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ümkünse, IP adresi delillerini desteklemek için başka kaynaklardan deliller de kullanılmalıd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48840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IP adresleri internette kullanılmaz, sadece özel (dahili) kullanım için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Şüpheli IP Adresinin Te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ki Hare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şinin çevrimiçi hareketleri bazı kayıtlar oluştur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dan kullanıcının iletişimde kullandığı IP adresi elde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da şüphelinin tespiti açısından önemli bir bilg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eklidir ama yeterli değil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ullanıcı web'de gezinirken bir web sunucusuna talepler gönderir, sunucu da kullanıcıya yanıtlar y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eplerin ve yanıtların formatı, Hiper Metin Aktarım Protokolü (HTTP) adı verilen bir protokolle belirlen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nucu, gelen tüm taleplerin kayıtlarını tutar ve talebin gönderildiği IP adresini de kayd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Sıla Okur</cp:lastModifiedBy>
  <cp:lastPrinted>2016-05-18T07:38:13Z</cp:lastPrinted>
  <dcterms:modified xsi:type="dcterms:W3CDTF">2017-11-09T23:35:10Z</dcterms:modified>
  <cp:revision>286</cp:revision>
  <dc:subject/>
  <dc:title>PowerPoint Presentation</dc:title>
</cp:coreProperties>
</file>